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CA8-53D7-427B-BFA4-DA76B901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603-99CB-40EC-B0C7-C8A9BBE1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FE3-66F9-4A79-8A94-5966FD82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8CC-0F81-4EA2-9598-E068B36C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774CC-2885-4E98-BA5B-31FAC601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2214A-21FF-48BC-9527-F4C292B8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AA7CB-7340-4B1F-92EA-1102081A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29636-78CD-4116-8F6F-868BC46C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A1482-EF56-4B7D-B29F-3AFE5BF0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9671A-6545-4B3D-9696-466F2C19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423DE-AB3C-4F1B-B8C5-B203766F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FF5-0DCA-4799-9E46-092BB33F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921C7-6860-4122-BECD-B672DDDB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B7A49-F65F-45C0-8770-009A5718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D63BD-5921-4A9C-9047-86A9D3E6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D10C8-BAE7-4EEF-849C-10229940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C7328-A710-4D7A-AC88-A0D1F5A0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A1A-E0EA-4343-B218-562E9F96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7C1-9279-4F33-87D1-38849CC9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4B6-E57D-405A-B25B-361DD4CF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DB6-FB26-4EFA-B448-78F2FBB5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CEE-C7BE-42B8-AB8C-A27D3B83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2CD-908A-4841-8EA7-6D0E352E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E65D-5282-4539-8CD6-B731E12E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D20B-B488-4774-BCA9-40CE49A1E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CE65-937D-4E8A-959C-23267E4ED0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23"/>
          <p:cNvSpPr/>
          <p:nvPr/>
        </p:nvSpPr>
        <p:spPr>
          <a:xfrm>
            <a:off x="3733920" y="5029200"/>
            <a:ext cx="380880" cy="380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5181480" y="4343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4419720" y="4343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2362320" y="4343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3733920" y="4343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3048120" y="4343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1600200" y="4343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5791320" y="43750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" name="Group 25"/>
          <p:cNvGrpSpPr/>
          <p:nvPr/>
        </p:nvGrpSpPr>
        <p:grpSpPr>
          <a:xfrm>
            <a:off x="1143000" y="5029200"/>
            <a:ext cx="6324480" cy="457200"/>
            <a:chOff x="1143000" y="5029200"/>
            <a:chExt cx="6324480" cy="457200"/>
          </a:xfrm>
        </p:grpSpPr>
        <p:grpSp>
          <p:nvGrpSpPr>
            <p:cNvPr id="93" name="Group 6"/>
            <p:cNvGrpSpPr/>
            <p:nvPr/>
          </p:nvGrpSpPr>
          <p:grpSpPr>
            <a:xfrm>
              <a:off x="1143000" y="5029200"/>
              <a:ext cx="6324480" cy="457200"/>
              <a:chOff x="1143000" y="5029200"/>
              <a:chExt cx="6324480" cy="457200"/>
            </a:xfrm>
          </p:grpSpPr>
          <p:sp>
            <p:nvSpPr>
              <p:cNvPr id="94" name="Line 7"/>
              <p:cNvSpPr/>
              <p:nvPr/>
            </p:nvSpPr>
            <p:spPr>
              <a:xfrm>
                <a:off x="1143000" y="5257800"/>
                <a:ext cx="6324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Line 8"/>
              <p:cNvSpPr/>
              <p:nvPr/>
            </p:nvSpPr>
            <p:spPr>
              <a:xfrm>
                <a:off x="1752480" y="5105520"/>
                <a:ext cx="0" cy="380880"/>
              </a:xfrm>
              <a:prstGeom prst="line">
                <a:avLst/>
              </a:prstGeom>
              <a:ln w="5724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Line 9"/>
              <p:cNvSpPr/>
              <p:nvPr/>
            </p:nvSpPr>
            <p:spPr>
              <a:xfrm>
                <a:off x="2514600" y="5029200"/>
                <a:ext cx="0" cy="380880"/>
              </a:xfrm>
              <a:prstGeom prst="line">
                <a:avLst/>
              </a:prstGeom>
              <a:ln w="5724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Line 10"/>
              <p:cNvSpPr/>
              <p:nvPr/>
            </p:nvSpPr>
            <p:spPr>
              <a:xfrm>
                <a:off x="3200400" y="5105520"/>
                <a:ext cx="0" cy="380880"/>
              </a:xfrm>
              <a:prstGeom prst="line">
                <a:avLst/>
              </a:prstGeom>
              <a:ln w="5724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Line 11"/>
              <p:cNvSpPr/>
              <p:nvPr/>
            </p:nvSpPr>
            <p:spPr>
              <a:xfrm>
                <a:off x="3886200" y="5029200"/>
                <a:ext cx="0" cy="380880"/>
              </a:xfrm>
              <a:prstGeom prst="line">
                <a:avLst/>
              </a:prstGeom>
              <a:ln w="5724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Line 12"/>
              <p:cNvSpPr/>
              <p:nvPr/>
            </p:nvSpPr>
            <p:spPr>
              <a:xfrm>
                <a:off x="4572000" y="5105520"/>
                <a:ext cx="0" cy="380880"/>
              </a:xfrm>
              <a:prstGeom prst="line">
                <a:avLst/>
              </a:prstGeom>
              <a:ln w="5724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Line 13"/>
              <p:cNvSpPr/>
              <p:nvPr/>
            </p:nvSpPr>
            <p:spPr>
              <a:xfrm>
                <a:off x="5334120" y="5029200"/>
                <a:ext cx="0" cy="380880"/>
              </a:xfrm>
              <a:prstGeom prst="line">
                <a:avLst/>
              </a:prstGeom>
              <a:ln w="5724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Line 14"/>
              <p:cNvSpPr/>
              <p:nvPr/>
            </p:nvSpPr>
            <p:spPr>
              <a:xfrm>
                <a:off x="6019920" y="5105520"/>
                <a:ext cx="0" cy="380880"/>
              </a:xfrm>
              <a:prstGeom prst="line">
                <a:avLst/>
              </a:prstGeom>
              <a:ln w="5724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2" name="Line 24"/>
            <p:cNvSpPr/>
            <p:nvPr/>
          </p:nvSpPr>
          <p:spPr>
            <a:xfrm>
              <a:off x="4114800" y="5257800"/>
              <a:ext cx="1600200" cy="0"/>
            </a:xfrm>
            <a:prstGeom prst="line">
              <a:avLst/>
            </a:prstGeom>
            <a:ln w="1522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" name="Object 28"/>
              <p:cNvSpPr txBox="1"/>
              <p:nvPr/>
            </p:nvSpPr>
            <p:spPr>
              <a:xfrm>
                <a:off x="4260960" y="3340080"/>
                <a:ext cx="622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30"/>
              <p:cNvSpPr txBox="1"/>
              <p:nvPr/>
            </p:nvSpPr>
            <p:spPr>
              <a:xfrm>
                <a:off x="2057400" y="2590920"/>
                <a:ext cx="4419720" cy="12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85800" y="304920"/>
            <a:ext cx="7848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600200" y="2895480"/>
            <a:ext cx="6019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ahoma"/>
              </a:rPr>
              <a:t>Let’s try some on our own ……  ready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1523880" y="3200400"/>
                <a:ext cx="6375600" cy="20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≤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6"/>
          <p:cNvSpPr/>
          <p:nvPr/>
        </p:nvSpPr>
        <p:spPr>
          <a:xfrm>
            <a:off x="838080" y="2666880"/>
            <a:ext cx="609840" cy="1008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6126464" presetSubtype="542586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0"/>
              <p:cNvSpPr txBox="1"/>
              <p:nvPr/>
            </p:nvSpPr>
            <p:spPr>
              <a:xfrm>
                <a:off x="1676520" y="2819520"/>
                <a:ext cx="5790960" cy="18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4"/>
          <p:cNvSpPr/>
          <p:nvPr/>
        </p:nvSpPr>
        <p:spPr>
          <a:xfrm>
            <a:off x="838080" y="2666880"/>
            <a:ext cx="609840" cy="1008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6126848" presetSubtype="542588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1295280" y="2971800"/>
                <a:ext cx="659160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5"/>
          <p:cNvSpPr/>
          <p:nvPr/>
        </p:nvSpPr>
        <p:spPr>
          <a:xfrm>
            <a:off x="838080" y="2666880"/>
            <a:ext cx="609840" cy="1008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65179648" presetSubtype="542590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1143000" y="2743200"/>
                <a:ext cx="702324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 Box 5"/>
          <p:cNvSpPr/>
          <p:nvPr/>
        </p:nvSpPr>
        <p:spPr>
          <a:xfrm>
            <a:off x="838080" y="2666880"/>
            <a:ext cx="609840" cy="1008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65180032" presetSubtype="542592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51"/>
              </a:spcBef>
              <a:buClr>
                <a:srgbClr val="ffcc00"/>
              </a:buClr>
              <a:buSzPct val="120000"/>
              <a:buFont typeface="Stone Sans OS ITC T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x ≤ </a:t>
            </a:r>
            <a:r>
              <a:rPr b="1" i="1" lang="en-US" sz="4600" spc="-1" strike="noStrike">
                <a:solidFill>
                  <a:srgbClr val="000099"/>
                </a:solidFill>
                <a:latin typeface="Stone Sans OS ITC TT-Bold"/>
              </a:rPr>
              <a:t>1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Stone Sans OS ITC T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</a:t>
            </a: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8 ≤ x or x ≥ 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Stone Sans OS ITC T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</a:t>
            </a: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x ≤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Stone Sans OS ITC T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</a:t>
            </a: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x &gt;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Stone Sans OS ITC T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Answers for #1 - #4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90720" y="1981080"/>
            <a:ext cx="1839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2590920" y="2666880"/>
                <a:ext cx="4190760" cy="30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Text Box 5"/>
          <p:cNvSpPr/>
          <p:nvPr/>
        </p:nvSpPr>
        <p:spPr>
          <a:xfrm>
            <a:off x="838080" y="2666880"/>
            <a:ext cx="609840" cy="1008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65180800" presetSubtype="651920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2209680" y="2666880"/>
                <a:ext cx="4724640" cy="31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Text Box 5"/>
          <p:cNvSpPr/>
          <p:nvPr/>
        </p:nvSpPr>
        <p:spPr>
          <a:xfrm>
            <a:off x="838080" y="2666880"/>
            <a:ext cx="609840" cy="1008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65181184" presetSubtype="561030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0"/>
              <p:cNvSpPr txBox="1"/>
              <p:nvPr/>
            </p:nvSpPr>
            <p:spPr>
              <a:xfrm>
                <a:off x="1676520" y="3200400"/>
                <a:ext cx="624816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Text Box 6"/>
          <p:cNvSpPr/>
          <p:nvPr/>
        </p:nvSpPr>
        <p:spPr>
          <a:xfrm>
            <a:off x="838080" y="2666880"/>
            <a:ext cx="609840" cy="1008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65181568" presetSubtype="56103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0"/>
              <p:cNvSpPr txBox="1"/>
              <p:nvPr/>
            </p:nvSpPr>
            <p:spPr>
              <a:xfrm>
                <a:off x="2895480" y="2438280"/>
                <a:ext cx="3351240" cy="358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Text Box 5"/>
          <p:cNvSpPr/>
          <p:nvPr/>
        </p:nvSpPr>
        <p:spPr>
          <a:xfrm>
            <a:off x="838080" y="2666880"/>
            <a:ext cx="609840" cy="1008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65181952" presetSubtype="561034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228600" y="3733920"/>
            <a:ext cx="8458200" cy="21049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3874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Objective: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o solve              one-step inequalities using       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operties for inequal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62120" y="380880"/>
            <a:ext cx="78483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Answers for #5 - #8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Stone Sans OS ITC TT-Bold"/>
              </a:rPr>
              <a:t>5.</a:t>
            </a: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 x ≥ -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Stone Sans OS ITC TT-Bold"/>
              </a:rPr>
              <a:t>6.</a:t>
            </a: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 21 &lt; x or x &gt; 2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Stone Sans OS ITC TT-Bold"/>
              </a:rPr>
              <a:t>7.</a:t>
            </a: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x ≥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1" i="1" lang="en-US" sz="4400" spc="-1" strike="noStrike">
                <a:solidFill>
                  <a:srgbClr val="ffcc00"/>
                </a:solidFill>
                <a:latin typeface="Stone Sans OS ITC TT-Bold"/>
              </a:rPr>
              <a:t>8. </a:t>
            </a: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x &gt; 1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1752480"/>
            <a:ext cx="89917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AT THE TOP OF ASSINGMENT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lease take out a piece of paper and write down what the steps are for solving a one-step inequ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371600" y="6858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Rockwell Extra Bold"/>
              </a:rPr>
              <a:t>Reflec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533520" y="685800"/>
            <a:ext cx="54864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99"/>
                </a:solidFill>
                <a:latin typeface="Times New Roman"/>
              </a:rPr>
              <a:t>Solving One-Step Inequalities</a:t>
            </a:r>
            <a:r>
              <a:rPr b="0" lang="en-US" sz="5500" spc="-1" strike="noStrike">
                <a:solidFill>
                  <a:srgbClr val="ca0e17"/>
                </a:solidFill>
                <a:latin typeface="Times New Roman"/>
              </a:rPr>
              <a:t> 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495600" cy="2343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685800" y="4876920"/>
            <a:ext cx="7924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xcellent Job !!!  Well Done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2179800" y="2743200"/>
            <a:ext cx="1228680" cy="20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ssignment is on page 321 &amp; 32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 321 # 14-19 all and #20-36 even (do not graph thes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 329 #13-18 all and #20-34 ev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6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990720" y="2666880"/>
            <a:ext cx="7391160" cy="2849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3874d1"/>
              </a:gs>
            </a:gsLst>
            <a:path path="rect">
              <a:fillToRect l="50000" t="50000" r="50000" b="50000"/>
            </a:path>
          </a:gradFill>
          <a:ln w="69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What are the                       Properties for Inequaliti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re they the same as for regular equation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6123776" presetSubtype="54256896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700"/>
                            </p:stCondLst>
                            <p:childTnLst>
                              <p:par>
                                <p:cTn id="23" nodeType="afterEffect" fill="hold" presetClass="entr" presetID="56123776" presetSubtype="54256896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57200" y="380880"/>
            <a:ext cx="86868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Addition Property for Inequal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038480" y="2514600"/>
            <a:ext cx="3429000" cy="1099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ef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Tahoma"/>
              </a:rPr>
              <a:t>X-15&lt;73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28600" y="3886200"/>
            <a:ext cx="8534520" cy="1099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eda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0" lang="en-US" sz="6600" spc="-1" strike="noStrike">
                <a:solidFill>
                  <a:srgbClr val="000099"/>
                </a:solidFill>
                <a:latin typeface="Tahoma"/>
              </a:rPr>
              <a:t>X-15+15&lt;73+15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352680" y="5257800"/>
            <a:ext cx="2667240" cy="1099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e4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Tahoma"/>
              </a:rPr>
              <a:t>X&lt;88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38040" y="4114800"/>
            <a:ext cx="17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Add 15 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both si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380880"/>
            <a:ext cx="86868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Subtraction Property for Inequal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038480" y="2514600"/>
            <a:ext cx="4038840" cy="1099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e4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Tahoma"/>
              </a:rPr>
              <a:t>y+15&lt;25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57200" y="3886200"/>
            <a:ext cx="8458200" cy="1099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e4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Tahoma"/>
              </a:rPr>
              <a:t>        </a:t>
            </a:r>
            <a:r>
              <a:rPr b="0" lang="en-US" sz="6600" spc="-1" strike="noStrike">
                <a:solidFill>
                  <a:srgbClr val="000099"/>
                </a:solidFill>
                <a:latin typeface="Tahoma"/>
              </a:rPr>
              <a:t>Y+15-15&lt;25-15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352680" y="5257800"/>
            <a:ext cx="2667240" cy="1099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e5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Tahoma"/>
              </a:rPr>
              <a:t>y&lt;10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17680" y="4068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33520" y="40384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ubtract 15 from both si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380880"/>
            <a:ext cx="86868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57200" y="16002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Multiplication Property for Inequal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0"/>
              <p:cNvSpPr txBox="1"/>
              <p:nvPr/>
            </p:nvSpPr>
            <p:spPr>
              <a:xfrm>
                <a:off x="5562720" y="2438280"/>
                <a:ext cx="2133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"/>
              <p:cNvSpPr txBox="1"/>
              <p:nvPr/>
            </p:nvSpPr>
            <p:spPr>
              <a:xfrm>
                <a:off x="2057400" y="3962520"/>
                <a:ext cx="259092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Line 10"/>
          <p:cNvSpPr/>
          <p:nvPr/>
        </p:nvSpPr>
        <p:spPr>
          <a:xfrm>
            <a:off x="4724280" y="4876920"/>
            <a:ext cx="18288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6553080" y="4876920"/>
                <a:ext cx="24386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Line 12"/>
          <p:cNvSpPr/>
          <p:nvPr/>
        </p:nvSpPr>
        <p:spPr>
          <a:xfrm flipH="1">
            <a:off x="3886200" y="3048120"/>
            <a:ext cx="12952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41360" y="46022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4038480"/>
            <a:ext cx="1905120" cy="1313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y both sides by the reciprocal of the coeffici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6124928" presetSubtype="561419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57200" y="380880"/>
            <a:ext cx="86868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16002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Division Property for Inequal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495680" y="4800600"/>
            <a:ext cx="144792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6"/>
          <p:cNvSpPr/>
          <p:nvPr/>
        </p:nvSpPr>
        <p:spPr>
          <a:xfrm flipH="1">
            <a:off x="4800600" y="3048120"/>
            <a:ext cx="12952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8"/>
              <p:cNvSpPr txBox="1"/>
              <p:nvPr/>
            </p:nvSpPr>
            <p:spPr>
              <a:xfrm>
                <a:off x="6553080" y="2514600"/>
                <a:ext cx="25909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1676520" y="3276720"/>
                <a:ext cx="274320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"/>
              <p:cNvSpPr txBox="1"/>
              <p:nvPr/>
            </p:nvSpPr>
            <p:spPr>
              <a:xfrm>
                <a:off x="6095880" y="4648320"/>
                <a:ext cx="2590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11"/>
          <p:cNvSpPr/>
          <p:nvPr/>
        </p:nvSpPr>
        <p:spPr>
          <a:xfrm>
            <a:off x="0" y="3635280"/>
            <a:ext cx="1600200" cy="1313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de both sides by the coefficient of 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6125312" presetSubtype="542577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380880" y="3808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Division Property for Inequal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114800" y="548640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2590920" y="35053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67080" y="1219320"/>
            <a:ext cx="4419720" cy="173988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aution! Dividing by a negativ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6"/>
              <p:cNvSpPr txBox="1"/>
              <p:nvPr/>
            </p:nvSpPr>
            <p:spPr>
              <a:xfrm>
                <a:off x="380880" y="2209680"/>
                <a:ext cx="3353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7"/>
              <p:cNvSpPr txBox="1"/>
              <p:nvPr/>
            </p:nvSpPr>
            <p:spPr>
              <a:xfrm>
                <a:off x="533520" y="4495680"/>
                <a:ext cx="335268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8"/>
              <p:cNvSpPr txBox="1"/>
              <p:nvPr/>
            </p:nvSpPr>
            <p:spPr>
              <a:xfrm>
                <a:off x="5181480" y="5029200"/>
                <a:ext cx="30481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" name="Group 22"/>
          <p:cNvGrpSpPr/>
          <p:nvPr/>
        </p:nvGrpSpPr>
        <p:grpSpPr>
          <a:xfrm>
            <a:off x="4876920" y="3352680"/>
            <a:ext cx="3809880" cy="1828800"/>
            <a:chOff x="4876920" y="3352680"/>
            <a:chExt cx="3809880" cy="1828800"/>
          </a:xfrm>
        </p:grpSpPr>
        <p:sp>
          <p:nvSpPr>
            <p:cNvPr id="148" name="Oval 20"/>
            <p:cNvSpPr/>
            <p:nvPr/>
          </p:nvSpPr>
          <p:spPr>
            <a:xfrm>
              <a:off x="4876920" y="3352680"/>
              <a:ext cx="3809880" cy="18288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21"/>
            <p:cNvSpPr/>
            <p:nvPr/>
          </p:nvSpPr>
          <p:spPr>
            <a:xfrm>
              <a:off x="5562720" y="3809880"/>
              <a:ext cx="274320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99"/>
                  </a:solidFill>
                  <a:latin typeface="Tahoma"/>
                </a:rPr>
                <a:t>Notice:  Sign CHANGED</a:t>
              </a:r>
              <a:endParaRPr b="0" lang="en-US" sz="3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Text Box 23"/>
          <p:cNvSpPr/>
          <p:nvPr/>
        </p:nvSpPr>
        <p:spPr>
          <a:xfrm>
            <a:off x="4648320" y="2819520"/>
            <a:ext cx="388620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ame if multiply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80880" y="3808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Multiplication Property for Inequal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343400" y="1447920"/>
            <a:ext cx="4419720" cy="173988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aution! When you multiply by a negative number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3" name="Group 9"/>
          <p:cNvGrpSpPr/>
          <p:nvPr/>
        </p:nvGrpSpPr>
        <p:grpSpPr>
          <a:xfrm>
            <a:off x="5486400" y="3276720"/>
            <a:ext cx="3885840" cy="1904400"/>
            <a:chOff x="5486400" y="3276720"/>
            <a:chExt cx="3885840" cy="1904400"/>
          </a:xfrm>
        </p:grpSpPr>
        <p:sp>
          <p:nvSpPr>
            <p:cNvPr id="154" name="Oval 10"/>
            <p:cNvSpPr/>
            <p:nvPr/>
          </p:nvSpPr>
          <p:spPr>
            <a:xfrm>
              <a:off x="5486400" y="3276720"/>
              <a:ext cx="3885840" cy="1904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6185880" y="3752640"/>
              <a:ext cx="27979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99"/>
                  </a:solidFill>
                  <a:latin typeface="Tahoma"/>
                </a:rPr>
                <a:t>…</a:t>
              </a:r>
              <a:r>
                <a:rPr b="0" lang="en-US" sz="3400" spc="-1" strike="noStrike">
                  <a:solidFill>
                    <a:srgbClr val="000099"/>
                  </a:solidFill>
                  <a:latin typeface="Tahoma"/>
                </a:rPr>
                <a:t>the sign CHANGES</a:t>
              </a:r>
              <a:endParaRPr b="0" lang="en-US" sz="3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6" name="Text Box 14"/>
          <p:cNvSpPr/>
          <p:nvPr/>
        </p:nvSpPr>
        <p:spPr>
          <a:xfrm>
            <a:off x="974880" y="1981080"/>
            <a:ext cx="158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Stone Sans OS ITC TT-Semi"/>
              </a:rPr>
              <a:t>YES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669960" y="31543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517680" y="2971800"/>
            <a:ext cx="2076120" cy="143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-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Lucida Calligraphy"/>
              </a:rPr>
              <a:t>x </a:t>
            </a: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&gt;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380880" y="5181480"/>
            <a:ext cx="4648320" cy="143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(-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Lucida Calligraphy"/>
              </a:rPr>
              <a:t>5 </a:t>
            </a: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)-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Lucida Calligraphy"/>
              </a:rPr>
              <a:t>x </a:t>
            </a: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&gt; 2(-5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1     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6248520" y="5105520"/>
            <a:ext cx="2743200" cy="143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x </a:t>
            </a:r>
            <a:r>
              <a:rPr b="1" i="1" lang="en-US" sz="4400" spc="-1" strike="noStrike">
                <a:solidFill>
                  <a:srgbClr val="ff0000"/>
                </a:solidFill>
                <a:latin typeface="Lucida Calligraphy"/>
              </a:rPr>
              <a:t>&lt;</a:t>
            </a: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 -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21"/>
          <p:cNvSpPr/>
          <p:nvPr/>
        </p:nvSpPr>
        <p:spPr>
          <a:xfrm>
            <a:off x="1219320" y="4572000"/>
            <a:ext cx="30456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5181480" y="60199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zz1</cp:lastModifiedBy>
  <dcterms:modified xsi:type="dcterms:W3CDTF">2010-10-18T12:36:57Z</dcterms:modified>
  <cp:revision>66</cp:revision>
  <dc:subject/>
  <dc:title>Inequalities and their Graphs</dc:title>
</cp:coreProperties>
</file>